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3027-0419-4EA2-9C35-120CB6B4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4826-0848-434A-8057-3C89C371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87C4-AAA6-4244-8BBB-CB0680DE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6AAB-411A-434E-ABC4-6782CA59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B72-84E6-4B05-B561-D0497674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6E9-182E-468D-8CCC-76142826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4C05-A3E1-459C-8288-A6785DB7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B89E-FEED-4DC9-9C4C-CD45D271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DC52-46A8-4CE7-A526-CAE8467A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8834-0862-4D84-87C1-373908F8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FCB4-6C83-4000-8201-01C22792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6F77-0ED0-45E3-8F2C-B9BE3374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B831-1861-4933-BE7A-835A1CDA0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ulder Injuri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Nanda K. Sinha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4640" y="1828800"/>
            <a:ext cx="349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view of scap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7520" y="1619280"/>
            <a:ext cx="56289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14640" y="1295280"/>
            <a:ext cx="223056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houlder dislo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rior: 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ior: Most mi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ior: Most dra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ior: Acromion blocks superior displa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17920" y="1600200"/>
            <a:ext cx="390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57640" y="1989000"/>
            <a:ext cx="26287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76560" y="1638360"/>
            <a:ext cx="29908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90920" y="2152800"/>
            <a:ext cx="34099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ally displaced fracture: non-operativ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90560" y="1600200"/>
            <a:ext cx="5762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part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89240" y="1905120"/>
            <a:ext cx="23148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0600" y="1628640"/>
            <a:ext cx="4762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part fracture -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33680"/>
            <a:ext cx="82296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laced fracture: closed or open reduction: fix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05040" y="1600200"/>
            <a:ext cx="553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op vs opera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87520" y="1938240"/>
            <a:ext cx="43689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ure: shaft of hume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382920" y="1600200"/>
            <a:ext cx="237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19160" y="2214720"/>
            <a:ext cx="53056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al ( inner) 1/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1/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ral (outer) 1/3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dle 1/3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09680" y="1600200"/>
            <a:ext cx="65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teral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57400" y="2255760"/>
            <a:ext cx="495288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33720" y="203364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2643120"/>
            <a:ext cx="3810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inuted,displa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-ray 15 degree cran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ions for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ning of 20 mm or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n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nding skin disruption and irreducible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cular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neurologic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d lateral 1/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m sling vs fig of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48080" y="182880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reduction internal fixation (OR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81080" y="1785960"/>
            <a:ext cx="43434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09680" y="1600200"/>
            <a:ext cx="65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 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191916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-C Joint dislo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38280" y="2044800"/>
            <a:ext cx="39625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27520" y="1600200"/>
            <a:ext cx="328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1282680"/>
            <a:ext cx="3933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95680" y="1600200"/>
            <a:ext cx="4170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82760" y="1600200"/>
            <a:ext cx="277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1880" y="1600200"/>
            <a:ext cx="534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188604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1 and 2: non op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4 and above: OR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3: ( A-C Joint reducible by pushing up on the elbow at 90 deg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–op vs ORI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erative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lim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o monitor amount of 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habilitation once pain is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shou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05200" y="1371600"/>
            <a:ext cx="3162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shoulder: axillary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4600" y="2290680"/>
            <a:ext cx="4114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xray-scapular  Y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19640" y="1957320"/>
            <a:ext cx="2304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erior:Post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62360" y="1957320"/>
            <a:ext cx="3419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38400" y="1600200"/>
            <a:ext cx="3065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6:20:21Z</dcterms:created>
  <dc:creator>Nanda K. Sinha</dc:creator>
  <dc:description/>
  <dc:language>en-US</dc:language>
  <cp:lastModifiedBy>Nanda K. Sinha</cp:lastModifiedBy>
  <dcterms:modified xsi:type="dcterms:W3CDTF">2010-07-08T05:33:14Z</dcterms:modified>
  <cp:revision>8</cp:revision>
  <dc:subject/>
  <dc:title>Injuries of the shoulder</dc:title>
</cp:coreProperties>
</file>